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F0DD-EE58-498C-B184-50FF2EBD9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4158-2271-4758-95F5-0238822EF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5346-51A6-434E-8786-EB26C8E8C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6A94-0706-4034-92BF-C1A671C93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B94D-9DE9-4D82-86A5-48E9AE263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4DEC-3E1C-4086-9B4C-42DD50995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FEBA-90BF-4462-A940-CD14B8C11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975E-3F3B-4E2B-B379-1F49981F5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9FF0-68E3-4663-AF38-46CDBBB55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0794-DE78-4FBC-AB68-41482448F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59D3-673D-4B1A-A815-2E115C98C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E705-20D5-4AF3-B2BE-04248487A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1FEE7-EF89-4C95-8365-D18DDF47A4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940520" y="6381720"/>
            <a:ext cx="879480" cy="41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657360"/>
            <a:ext cx="8229600" cy="55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Владивостокский государственный университет экономики и сервиса</a:t>
            </a:r>
            <a:br>
              <a:rPr sz="2400"/>
            </a:b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Институт информатики, инноваций и бизнес систем</a:t>
            </a:r>
            <a:br>
              <a:rPr sz="2400"/>
            </a:b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Кафедра информационных систем и компьютерных технолог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Предмет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«Телекоммуникационные технологии»</a:t>
            </a:r>
            <a:r>
              <a:rPr b="1" lang="ru-RU" sz="2400" spc="-1" strike="noStrike">
                <a:solidFill>
                  <a:srgbClr val="3366ff"/>
                </a:solidFill>
                <a:latin typeface="Tahoma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Руководитель: Сачко Максим Анатольевич, ст. преподава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F11AD-99E8-469F-8361-5CFBB3AA902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39640" y="1052640"/>
            <a:ext cx="8101080" cy="489564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Эти процессы, с другой стороны, могут находиться не на самом верхнем уровне модел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При этом сущность этих данных и их интерпретация для рассматриваемых процессов совершенно не важн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58920" y="65736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3CF6F-2D9E-4049-A4AD-9ACE1C873A6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219240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24000" y="296064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58920" y="828000"/>
            <a:ext cx="84261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Arial"/>
              </a:rPr>
              <a:t>Уровень приложения (Application)</a:t>
            </a:r>
            <a:r>
              <a:rPr b="0" lang="ru-RU" sz="2800" spc="-1" strike="noStrike">
                <a:solidFill>
                  <a:srgbClr val="3366ff"/>
                </a:solidFill>
                <a:latin typeface="Arial"/>
              </a:rPr>
              <a:t> - интерфейс с прикладными процесса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Arial"/>
              </a:rPr>
              <a:t>Уровень представления (Presentation)</a:t>
            </a:r>
            <a:r>
              <a:rPr b="0" lang="ru-RU" sz="2800" spc="-1" strike="noStrike">
                <a:solidFill>
                  <a:srgbClr val="3366ff"/>
                </a:solidFill>
                <a:latin typeface="Arial"/>
              </a:rPr>
              <a:t> - согласование представления (форматов, кодировок) данных прикладных процесс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Arial"/>
              </a:rPr>
              <a:t>Сеансовый уровень (Session)</a:t>
            </a:r>
            <a:r>
              <a:rPr b="0" lang="ru-RU" sz="2800" spc="-1" strike="noStrike">
                <a:solidFill>
                  <a:srgbClr val="3366ff"/>
                </a:solidFill>
                <a:latin typeface="Arial"/>
              </a:rPr>
              <a:t> - установление, поддержка и закрытие логического сеанса связи между удаленными процесса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24000" y="65736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87280" y="6058080"/>
            <a:ext cx="8496360" cy="3636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4360" y="1247400"/>
            <a:ext cx="78832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Arial"/>
              </a:rPr>
              <a:t>Транспортный уровень (Transport) -</a:t>
            </a:r>
            <a:r>
              <a:rPr b="0" lang="ru-RU" sz="2800" spc="-1" strike="noStrike">
                <a:solidFill>
                  <a:srgbClr val="3366ff"/>
                </a:solidFill>
                <a:latin typeface="Arial"/>
              </a:rPr>
              <a:t> обеспечение безошибочного сквозного обмена потоками данных между процессами во время сеанс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Arial"/>
              </a:rPr>
              <a:t>Сетевой уровень (Network) -</a:t>
            </a:r>
            <a:r>
              <a:rPr b="0" lang="ru-RU" sz="2800" spc="-1" strike="noStrike">
                <a:solidFill>
                  <a:srgbClr val="3366ff"/>
                </a:solidFill>
                <a:latin typeface="Arial"/>
              </a:rPr>
              <a:t> фрагментация и сборка передаваемых транспортным уровнем данных, маршрутизация и продвижение их по сети от компьютера-отправителя к компьютеру-получателю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06D75-0327-4873-92B5-560B7FBF545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87280" y="1233360"/>
            <a:ext cx="8496360" cy="7164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26920" y="1341360"/>
            <a:ext cx="78138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Arial"/>
              </a:rPr>
              <a:t>Канальный уровень (Data Link)</a:t>
            </a:r>
            <a:r>
              <a:rPr b="0" lang="ru-RU" sz="2800" spc="-1" strike="noStrike">
                <a:solidFill>
                  <a:srgbClr val="3366ff"/>
                </a:solidFill>
                <a:latin typeface="Arial"/>
              </a:rPr>
              <a:t> - управление каналом передачи данных, управление доступом к среде передачи, передача данных по каналу, обнаружение ошибок в канале и их коррекц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Arial"/>
              </a:rPr>
              <a:t>Физический уровень (Physical)</a:t>
            </a:r>
            <a:r>
              <a:rPr b="0" lang="ru-RU" sz="2800" spc="-1" strike="noStrike">
                <a:solidFill>
                  <a:srgbClr val="3366ff"/>
                </a:solidFill>
                <a:latin typeface="Arial"/>
              </a:rPr>
              <a:t> - физический интерфейс с каналом передачи данных, представление данных в виде физических сигналов и их кодирование (модуляция)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5346F-A85D-461F-B4DD-C0BBECE2DBE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87280" y="1268280"/>
            <a:ext cx="8496360" cy="7164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39640" y="409680"/>
            <a:ext cx="81727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3366ff"/>
                </a:solidFill>
                <a:latin typeface="Arial"/>
              </a:rPr>
              <a:t>. Инкапсуляция и обработка паке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Arial"/>
              </a:rPr>
              <a:t>При продвижении пакета данных по уровням сверху вниз каждый новый уровень добавляет к пакету свою служебную информацию в виде заголовка и, возможно, трейлера. Эта операция называется инкапсуляцией данных верхнего уровня в пакете нижнего уровня. Служебная информация предназначается для объекта того же уровня на удаленном компьютере, ее формат и интерпретация определяются протоколом данного уровн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92F22-56F7-4417-9ACB-F9BC30D705C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1828080"/>
            <a:ext cx="8208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Модель OSI предложена достаточно давно, однако протоколы, на ней основанные, используются редко, во-первых, в силу своей не всегда оправданной сложности, во-вторых , из-за существования хотя и не соответствующих строго модели OSI, но уже хорошо зарекомендовавших себя стеков протоколов (например, TCP/IP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895E5-6047-433C-85BA-BEA11E4B379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92000" y="2100600"/>
            <a:ext cx="7848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Arial"/>
              </a:rPr>
              <a:t>3. Стек протоколов TCP/IP TCP/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это собирательное название для набора (стека) сетевых протоколов разных уровней, используемых в Интерне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679B8-4313-499F-9812-2154E527D1D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47640" y="873000"/>
            <a:ext cx="78850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Arial"/>
              </a:rPr>
              <a:t>Особенности TCP/IP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- открытые стандарты протоколов, разрабатываемые независимо от программного и аппаратного обеспечения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независимость от физической среды передачи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- система уникальной адресации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стандартизованные протоколы высокого уровня для распространенных пользовательских сервис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8F7C7-D1D7-40CC-A70B-46FECAF5B45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11280" y="1268280"/>
            <a:ext cx="8243640" cy="439272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66ff"/>
                </a:solidFill>
                <a:latin typeface="Tahoma"/>
              </a:rPr>
              <a:t>Стек протоколов TCP/IP делится на 4 уровн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ahoma"/>
              </a:rPr>
              <a:t>- прикладной (application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ahoma"/>
              </a:rPr>
              <a:t>- транспортный (transport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ahoma"/>
              </a:rPr>
              <a:t>- межсетевой (internet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66ff"/>
                </a:solidFill>
                <a:latin typeface="Tahoma"/>
              </a:rPr>
              <a:t>- уровень доступа к среде передачи (network acces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3EF9B-D825-47A9-836F-131EFAECA36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31640" y="657360"/>
            <a:ext cx="8317080" cy="543564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Tahoma"/>
              </a:rPr>
              <a:t>Уровень прилож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66ff"/>
                </a:solidFill>
                <a:latin typeface="Tahoma"/>
              </a:rPr>
              <a:t>Приложения, работающие со стеком TCP/IP, могут также выполнять функции уровней представления и частично сеансового модели OSI; например, преобразование данных к внешнему представлению, группировка данных для передачи и т.п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ff"/>
                </a:solidFill>
                <a:latin typeface="Tahoma"/>
              </a:rPr>
              <a:t>Распространенными примерами приложений являются программы telnet, ftp, HTTP-серверы и клиенты (WWW-броузеры), программы работы с электронной почто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8920" y="1233360"/>
            <a:ext cx="8496000" cy="7164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68360" y="11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ahoma"/>
              </a:rPr>
              <a:t>Тема</a:t>
            </a:r>
            <a:r>
              <a:rPr b="1" lang="en-US" sz="4100" spc="-1" strike="noStrike">
                <a:solidFill>
                  <a:srgbClr val="3333ff"/>
                </a:solidFill>
                <a:latin typeface="Tahoma"/>
              </a:rPr>
              <a:t> 1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63640" y="2421000"/>
            <a:ext cx="58690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ff"/>
                </a:solidFill>
                <a:latin typeface="Arial"/>
              </a:rPr>
              <a:t>Стеки сетевых протоколов</a:t>
            </a:r>
            <a:r>
              <a:rPr b="0" lang="en-US" sz="4000" spc="-1" strike="noStrike">
                <a:solidFill>
                  <a:srgbClr val="3366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CACCD-5AC3-4C55-874C-E8E4136635A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03280" y="1916280"/>
            <a:ext cx="8209080" cy="356364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Tahoma"/>
              </a:rPr>
              <a:t>Транспортный уровен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ahoma"/>
              </a:rPr>
              <a:t>Протоколы транспортного уровня обеспечивают прозрачную (сквозную) доставку данных (end-to-end delivery service) между двумя прикладными процесса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5280" y="657360"/>
            <a:ext cx="849636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6DB2B-2987-4089-9B8B-86A3E5A4637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47640" y="1881360"/>
            <a:ext cx="7993080" cy="42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530280" indent="-2541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Процесс, получающий или отправляющий данные с помощью транспортного уровня, идентифицируется на этом уровне номером, который называется номером порт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131A1-BC42-4401-B42E-036C1CD199B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76360" y="1160640"/>
            <a:ext cx="8064360" cy="478944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Tahoma"/>
              </a:rPr>
              <a:t>На транспортном уровне работают два основных протокола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ahoma"/>
              </a:rPr>
              <a:t>UDP и TCP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Tahoma"/>
              </a:rPr>
              <a:t>TCP (Transmission Control Protocol - протокол контроля передачи) -</a:t>
            </a:r>
            <a:r>
              <a:rPr b="0" lang="ru-RU" sz="3200" spc="-1" strike="noStrike">
                <a:solidFill>
                  <a:srgbClr val="0066ff"/>
                </a:solidFill>
                <a:latin typeface="Tahoma"/>
              </a:rPr>
              <a:t> надежный протокол с установлением соединен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8CBAD-C962-4961-9368-FC81C720B1E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55640" y="1015920"/>
            <a:ext cx="7777080" cy="486108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Tahoma"/>
              </a:rPr>
              <a:t>4. Протокол UD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ahoma"/>
              </a:rPr>
              <a:t>UDP (User Datagram Protocol, протокол пользовательских дейтаграмм) фактически не выполняет каких-либо особых функций дополнительно к функциям межсетевого уров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EB657-A56C-4C6B-A50C-9B833515B11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31640" y="1015920"/>
            <a:ext cx="8317080" cy="489744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Протокол UDP используе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либо при пересылке коротких сообщений, когда накладные расходы на установление сеанса и проверку успешной доставки данных оказываются выше расходов на повторную (в случае неудачи) пересылку сообщени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либо в том случае, когда сама организация процесса-приложения обеспечивает установление соединения и проверку доставки пакетов (например, NFS).</a:t>
            </a:r>
            <a:r>
              <a:rPr b="0" lang="en-US" sz="2800" spc="-1" strike="noStrike">
                <a:solidFill>
                  <a:srgbClr val="0066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38A8C-2E3E-4C6D-AC00-C2DC14841FD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39640" y="744840"/>
            <a:ext cx="8172720" cy="55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994120"/>
                <a:tab algn="l" pos="3624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ff"/>
                </a:solidFill>
                <a:latin typeface="Tahoma"/>
              </a:rPr>
              <a:t>Значения полей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994120"/>
                <a:tab algn="l" pos="3624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ff"/>
                </a:solidFill>
                <a:latin typeface="Tahoma"/>
              </a:rPr>
              <a:t>Source Port - номер порта процесса-отправител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994120"/>
                <a:tab algn="l" pos="3624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ff"/>
                </a:solidFill>
                <a:latin typeface="Tahoma"/>
              </a:rPr>
              <a:t>Destination Port - номер порта процесса-получател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994120"/>
                <a:tab algn="l" pos="3624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ff"/>
                </a:solidFill>
                <a:latin typeface="Tahoma"/>
              </a:rPr>
              <a:t>Length - длина UDP-пакета вместе с заголовком в октета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994120"/>
                <a:tab algn="l" pos="3624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ff"/>
                </a:solidFill>
                <a:latin typeface="Tahoma"/>
              </a:rPr>
              <a:t>Checksum - контрольная сумма. Контрольная сумма вычисляется таким же образом, как и в TCP-заголовке (см. п. 3.2); если UDP-пакет имеет нечетную длину, то при вычислении контрольной суммы к нему добавляется нулевой окте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3EEA2-0FEC-478D-BD94-08282E8CAEB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58920" y="1703160"/>
            <a:ext cx="8532720" cy="34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Протокол UDP не имеет никаких средств подтверждения безошибочного приема данных или сообщения об ошибке, не обеспечивает приход сообщений в порядке отправки, не производит предварительного установления сеанса связи между прикладными процессами, поэтому он является ненадежным протоколом без установления соедин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31640" y="404280"/>
            <a:ext cx="822960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Tahoma"/>
              </a:rPr>
              <a:t>Межсетевой уровень и протокол 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17040" y="2060280"/>
            <a:ext cx="7931160" cy="39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bbe0e3"/>
                </a:solidFill>
                <a:latin typeface="Tahoma"/>
              </a:rPr>
              <a:t>- 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Протокол IP доставляет блоки данных, называемых дейтаграммами, от одного IP-адреса к другому. IP-адрес является уикальным 32-битным идентификатором компьютера (точнее, его сетевого интерфейса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755280" y="1233000"/>
            <a:ext cx="7777080" cy="46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Данные для дейтаграммы передаются IP-модулю транспортным уровнем. IP-модуль предваряет эти данные заголовком, содержащим IP-адреса отправителя и получателя и другую служебную информацию, и сформированная таким образом дейтаграмма передается на уровень доступа к среде передачи (например, одному из физических интерфейсов) для отправки по каналу передачи данны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684000" y="1628640"/>
            <a:ext cx="795636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Модуль IP может отправить компьютеру-источнику этой дейтаграммы уведомление об ошибке; такие уведомления отправляются с помощью протокола ICMP, являющегося неотъемлемой частью модуля.</a:t>
            </a:r>
            <a:r>
              <a:rPr b="0" lang="en-US" sz="3200" spc="-1" strike="noStrike">
                <a:solidFill>
                  <a:srgbClr val="3333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3280" y="512280"/>
            <a:ext cx="82296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ff"/>
                </a:solidFill>
                <a:latin typeface="Tahoma"/>
              </a:rPr>
              <a:t>Содержание: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31280" y="1520640"/>
            <a:ext cx="81219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1) Уровни модели O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2) Инкапсуляция и обработка паке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3) Стек протоколов TCP/I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4) Протокол IP и функции этого протокол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5) Протокол UD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6) Вопросы для самопровер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7) Рекомендуемая литература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95280" y="1484280"/>
            <a:ext cx="84708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1.    Опишите функции слоев стека TCP/IP и их взаимосвяз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2.    Что такое маска сет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3.    В чем состоит сущность процесса IP-маршрутизаци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4.    Каковы задачи протокола IP? TCP? В чем их отличие друг от друг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5.    Каковы недостатки протокола IP? Подходы к их решен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6.    Каковы недостатки протокола TCP? Подходы к их решен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7.    Как приложение взаимодействует со стеком TCP/IP?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ff"/>
                </a:solidFill>
                <a:latin typeface="Arial"/>
              </a:rPr>
              <a:t>Вопросы для самопроверк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66ff"/>
                </a:solidFill>
                <a:latin typeface="Tahoma"/>
              </a:rPr>
              <a:t>Рекомендуемая литература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60160" indent="-5601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Мамаев М.А. Телекоммуникационные технологии (Сети TCP/IP). – Владивосток: Изд-во ВГУЭС, 200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0160" indent="-5601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Леинванд А., Пински Б. Конфигурирование маршрутизаторов Cisco. 3-е издание. – М.: "Вильямс", 2007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0160" indent="-5601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Мамаев М., Петренко С. Технологии защиты информации в Интернете. Специальный справочник. – СПб: "Питер", 200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0160" indent="-5601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Doyle J. "Routing TCP/IP. Volume I" – Cisco Press, 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2005</a:t>
            </a: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317340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33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Tahoma"/>
              </a:rPr>
              <a:t>Использование материалов презент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33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ff"/>
                </a:solidFill>
                <a:latin typeface="Tahoma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33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ff"/>
                </a:solidFill>
                <a:latin typeface="Tahoma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4A604-9B89-45D5-BE01-178973FA75A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76360" y="1125360"/>
            <a:ext cx="7993080" cy="5004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1.1  Семиуровневая модель O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Модель OSI (Open System Interconnect Reference Model, Эталонная модель взаимодействия открытых систем) представляет собой универсальный стандарт на взаимодействие двух систем (компьютеров) через вычислительную сет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79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1 Уровни модели O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837B1-99B5-4670-8A51-412CC559A61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1413000"/>
            <a:ext cx="8064360" cy="4572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Каждый уровень определяется сервисом, который он предоставляет вышестоящему уровню, и протоколом - набором правил и форматов данных для взаимодействия между собой объектов одного уровня, работающих на разных компьютерах</a:t>
            </a: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318DD-94D4-467B-8CB4-38D3FD1E3F5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1484280"/>
            <a:ext cx="7921440" cy="399744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3200" spc="-1" strike="noStrike">
                <a:solidFill>
                  <a:srgbClr val="3366ff"/>
                </a:solidFill>
                <a:latin typeface="Arial"/>
              </a:rPr>
              <a:t>Модель построена так, что объекты одного уровня двух взаимодействующих компьютеров сообщаются непосредственно друг с другом с помощью соответствующих протоколов, не зная, какие уровни лежат под ними и какие функции они выполняют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E05F3-3CCE-4947-879F-9709DD71D87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19280" y="1628640"/>
            <a:ext cx="78483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Arial"/>
              </a:rPr>
              <a:t>Задача объектов - предоставить через стандартизованный интерфейс определенный сервис вышестоящему уровню, воспользовавшись, если нужно, сервисом, который предоставляет данному объекту нижележащий уровень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F065D-1FD8-4842-81BD-F4439894991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119700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39640" y="1413000"/>
            <a:ext cx="820908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47640" y="1448280"/>
            <a:ext cx="7885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Через стандартизованный интерфейс процесс-отправитель передает данные нижнему уровню, который предоставляет процессу сервис по пересылке данных, а процесс-получатель через такой же стандартизованный интерфейс получает эти данные от нижнего уровн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33E14-89B5-4DDA-BBEB-B8D4A9331C1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8920" y="800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11280" y="1736640"/>
            <a:ext cx="7920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При этом ни один из процессов не знает и не имеет необходимости знать, как именно осуществляет передачу данных протокол нижнего уровня, сколько еще уровней находится под ним, какова физическая среда передачи данных и каким путем они движутс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/>
  <dc:language>en-US</dc:language>
  <cp:lastModifiedBy>Maxim</cp:lastModifiedBy>
  <dcterms:modified xsi:type="dcterms:W3CDTF">2009-01-12T10:26:52Z</dcterms:modified>
  <cp:revision>135</cp:revision>
  <dc:subject/>
  <dc:title>Lecture Template </dc:title>
</cp:coreProperties>
</file>